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27C-CABC-4CCA-8A65-4705937E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ECD-FA15-4B3A-91E3-A5F7CED8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316-E5E1-4601-B2CA-DBBEDD9A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C00-FA85-45D3-AE9B-5139621C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0FFD-E628-4F66-B625-17668954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8637-66E1-4D63-A3D0-1D016CF9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C6B3-69E2-4561-9299-3528B05C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3477-D44B-488D-88D4-C35648BD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35C2-9048-466F-8D8B-BCFAA5B1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780B-0DED-4525-8032-7CCE8217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1402-A570-461F-96F5-5F0720C7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7B2-3461-4DA8-98BF-B703D612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2DA5-F3CE-4F81-832D-B95610A9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905A-785D-43C5-AEDA-4384B9E7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2E7C-546E-4D7E-9985-7F3DF5F4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1C3E-6750-497D-9435-7A9CEBF4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4BA8-CF33-4FD0-9696-26E677EC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D15-50A3-4935-B674-800B1DA8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DC6-82FE-4348-A93E-7200F7C7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3B26-88F0-4FEC-87D5-8F14E864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CD2-D2D8-4F54-911E-3BA03325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94D-7ABD-4B04-A443-599476A1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A8D-D924-4ACF-8887-D318E8C9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75D-B5A2-44F8-B5FD-E7699D4A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478C-735E-4163-BD7F-5D0C99425D6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3D6C-24FE-4AD3-934E-6E8EDCA5634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enguins.cl/penguin/gentoo-penguins.jpg&amp;imgrefurl=http://www.penguins.cl/penguins-intro.htm&amp;h=480&amp;w=640&amp;sz=26&amp;hl=en&amp;start=2&amp;tbnid=KJR8VU2xdnxuDM:&amp;tbnh=103&amp;tbnw=137&amp;prev=/images%3Fq%3Dpenguins%26gbv%3D2%26ndsp%3D20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ontereybay.com/creagrus/PenguinJck-Jul05CT-vertwl-w.jpg&amp;imgrefurl=http://cherubseries.proboards34.com/index.cgi%3Faction%3Dgotopost%26board%3Dtv%26thread%3D1201469506%26post%3D1201630515&amp;h=514&amp;w=500&amp;sz=52&amp;hl=en&amp;start=115&amp;tbnid=NJfWHvzRlAiLUM:&amp;tbnh=131&amp;tbnw=127&amp;prev=/images%3Fq%3Dpenguins%26start%3D100%26gbv%3D2%26ndsp%3D20%26hl%3Den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allpapers.dpics.org/wallpapers/15/Emperor_Penguins,_Weddell_Sea,_Antarctica.jpg&amp;imgrefurl=http://wallpapers.dpics.org/15__Emperor_Penguins,_Weddell_Sea,_Antarctica.htm&amp;h=768&amp;w=1024&amp;sz=257&amp;hl=en&amp;start=38&amp;tbnid=OTroQRXeG_feUM:&amp;tbnh=113&amp;tbnw=150&amp;prev=/images%3Fq%3Dpenguins%2Bin%2Bantarctica%26start%3D20%26gbv%3D2%26ndsp%3D20%26hl%3Den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oon.org/images-compressed/Eating-Fish.JPG&amp;imgrefurl=http://www.loon.org/loonfacts.html&amp;h=309&amp;w=450&amp;sz=22&amp;hl=en&amp;start=1&amp;tbnid=L7eslrEkgjqxPM:&amp;tbnh=87&amp;tbnw=127&amp;prev=/images%3Fq%3Dpenguins%2Beating%2Bfish%26gbv%3D2%26hl%3D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allpaper.net.au/wallpaper/movies/March%2520of%2520the%2520Penguins%25204%2520-%25201152x864.jpg&amp;imgrefurl=http://www.capecodtoday.com/blogs/index.php/Media/2006/&amp;h=864&amp;w=1152&amp;sz=202&amp;hl=en&amp;start=49&amp;tbnid=qACHzkTu9SmfCM:&amp;tbnh=112&amp;tbnw=150&amp;prev=/images%3Fq%3Dpenguins%26start%3D40%26gbv%3D2%26ndsp%3D20%26hl%3Den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olarcruises.com/Images/art_Penguins_emperor_and_chick.jpg&amp;imgrefurl=http://tallgirlrunning.blogspot.com/2008_01_01_archive.html&amp;h=359&amp;w=300&amp;sz=18&amp;hl=en&amp;start=40&amp;tbnid=oEBC93KkYmfzdM:&amp;tbnh=121&amp;tbnw=101&amp;prev=/images%3Fq%3Dpenguins%2Bin%2Bantarctica%26start%3D20%26gbv%3D2%26ndsp%3D20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penguin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y: Rebecka Bradfor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nguins! Do you know about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nguins?  Well come and learn something about penguins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048120"/>
            <a:ext cx="42674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enguins live in Antarctica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tarctica is the coldest place on the earth!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have skin and a layer of blubber to help  keep them war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581280"/>
            <a:ext cx="35816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enguins eat squid and small shrimp –like animals called krill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do they get the fish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4038480"/>
            <a:ext cx="52578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enguins rest on floats of ice an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look under the ice to catch food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6553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nguins lay eggs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hin a few days of mating, the females lay an egg 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ut four to five days later, the females lay a second, slightly smaller eg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41972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parents do is interesting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mother and father switch the baby or egg off every 12 to 15 days  Because they need to get food for themselv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4419720"/>
            <a:ext cx="4086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601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09480" y="367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094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Do you know about penguins now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39625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8:56:44Z</dcterms:modified>
  <cp:revision>5</cp:revision>
  <dc:subject/>
  <dc:title>Animal Name</dc:title>
</cp:coreProperties>
</file>